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90290"/>
        <c:axId val="34307868"/>
      </c:barChart>
      <c:catAx>
        <c:axId val="36690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07868"/>
        <c:crosses val="autoZero"/>
        <c:auto val="1"/>
        <c:lblAlgn val="ctr"/>
        <c:lblOffset val="100"/>
        <c:noMultiLvlLbl val="0"/>
      </c:catAx>
      <c:valAx>
        <c:axId val="34307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0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49E-4168-4E9F-85A5-D3105C6B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0EE-B5AB-4553-9532-9ECD699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93D-C7A7-4E39-ACA5-730C3552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D3F-2DC5-4DD9-83E9-7E574C14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6F2-8C5D-4732-948C-7F7344EE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530-EF7D-48EC-A3AA-99C1850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D5D-4492-488B-BEB8-6975E15C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702-CD43-41C2-83DD-78FBC14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F8B-827D-41EF-BCDC-3418385F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DCD-DDF2-4E66-AA88-E2360A19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3C6-80A6-4346-8F49-A1D680E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04C-9B80-44DE-A25B-2CB413F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C4035-88E8-49D4-A19A-55241D3042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