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86165"/>
        <c:axId val="89145840"/>
      </c:barChart>
      <c:catAx>
        <c:axId val="75286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45840"/>
        <c:crosses val="autoZero"/>
        <c:auto val="1"/>
        <c:lblAlgn val="ctr"/>
        <c:lblOffset val="100"/>
        <c:noMultiLvlLbl val="0"/>
      </c:catAx>
      <c:valAx>
        <c:axId val="89145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6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7B3-A68F-4B8C-BFFB-7AF53281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ACE-CD1B-4579-9D53-AF63CC8F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7BA-4E44-49AD-92F7-5BD18742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7E8-E8A6-436A-8615-C45C1288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2CC-9D9A-4A05-8FF2-8A84E428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47C-1CED-4519-868B-D642B451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A5C-AFF2-4789-BD9C-D824C490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842-C974-4EBA-9D28-BA830DC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D1C-1CB9-4C81-AC69-FF9FB1B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E5A-886B-4671-89D0-28A122E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3FD-ED0E-4A19-855E-4F243CD8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7B7-6345-4E8E-BDC7-1F1C00F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EA49D-755C-4AAB-B219-28654F8A9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