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98651"/>
        <c:axId val="89815611"/>
      </c:barChart>
      <c:catAx>
        <c:axId val="73698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15611"/>
        <c:crosses val="autoZero"/>
        <c:auto val="1"/>
        <c:lblAlgn val="ctr"/>
        <c:lblOffset val="100"/>
        <c:noMultiLvlLbl val="0"/>
      </c:catAx>
      <c:valAx>
        <c:axId val="89815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98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0D5-978F-4991-8EE1-47F61CEC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014-B7EE-455E-9D4B-1C9C7858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E73-4185-4648-BBD6-2DF5200A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54B-619B-4FD0-9175-F087CD41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864-314E-47FA-8482-04F24469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4A6-4EDA-4B23-82F9-8159FD58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D22-C893-4FD2-9CB9-6949F749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382-900A-4AD4-9F63-BFCEF34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9E6-E6BF-48F9-B70C-C0372B5A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A6C-D13A-4FAB-A48B-9F2480CA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F34-CDFD-40B1-B11E-0B89F377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E5D-95EB-443A-A987-4E71D40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86588-7945-4C83-8A15-A55D635D9B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