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25548"/>
        <c:axId val="78968581"/>
      </c:barChart>
      <c:catAx>
        <c:axId val="14525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68581"/>
        <c:crosses val="autoZero"/>
        <c:auto val="1"/>
        <c:lblAlgn val="ctr"/>
        <c:lblOffset val="100"/>
        <c:noMultiLvlLbl val="0"/>
      </c:catAx>
      <c:valAx>
        <c:axId val="78968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25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6FA-09BE-4EA3-A07C-DFE991F3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F78-08E9-49AE-BBC6-3E1375DD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949-C100-4941-8191-F21410A3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DCF-992C-433C-A7C1-1B842F3E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B0B-A26D-4049-B4CE-97EA40C4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6F5-E2FD-49AA-A486-9B09E165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557-E6AF-4C2B-AB64-54D59BEB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9DE-DE21-4A20-A2BF-ABB14F16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527-BC7A-49AF-9A6A-A2B4BA8D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AEE-19E1-483E-B1F7-C8573A00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F4A-4640-4CBE-BE6B-8792A7D1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6FD-05D4-4D48-8025-406789F3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1DC02-42DF-434B-89F6-45D87A497D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