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36256"/>
        <c:axId val="16292715"/>
      </c:barChart>
      <c:catAx>
        <c:axId val="79936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92715"/>
        <c:crosses val="autoZero"/>
        <c:auto val="1"/>
        <c:lblAlgn val="ctr"/>
        <c:lblOffset val="100"/>
        <c:noMultiLvlLbl val="0"/>
      </c:catAx>
      <c:valAx>
        <c:axId val="1629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36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ACC-CCD0-447E-9BF9-B43BB7F3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0B0-EAFA-4508-B04D-FFF2A04E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F8F-1AD2-4EB3-AB0B-763593F8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B6E-B05B-4193-A196-AF7D022F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79C-61EE-4706-9DDA-DABC03B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32CB-8842-4938-9692-EEC24E20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9F7-4358-464D-8EF0-B35BF151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897-94D6-4858-ABDA-153CEB05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0B0-1907-4543-A299-CCF6D79D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65D-C985-4686-818B-BFA15D5A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4BC-C50C-4C8C-AA3D-B5B1ABA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5C5-2DDB-439D-908B-476241D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615DF-1BC6-4D02-97A9-34D6E7284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