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624307"/>
        <c:axId val="55572198"/>
      </c:barChart>
      <c:catAx>
        <c:axId val="556243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72198"/>
        <c:crosses val="autoZero"/>
        <c:auto val="1"/>
        <c:lblAlgn val="ctr"/>
        <c:lblOffset val="100"/>
        <c:noMultiLvlLbl val="0"/>
      </c:catAx>
      <c:valAx>
        <c:axId val="555721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243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7FED-FC97-4233-BBC9-7EE96AEB5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44E7-5C13-4B2C-A4BA-F9D07909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E3A1-A6F4-453F-BECE-5CB564737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73F5-1A99-4783-B89F-BB2FD1286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A3D1-B7D7-42F2-BBA3-8C8CE94D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9971-0986-474D-AFE1-4CDAEC4A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2D99-A10B-4905-8788-5B80E32E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4CAA-CAC8-444B-A83F-EA41BA2F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3C4B-9A6B-47BF-BE04-2482A89A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9551-F32F-4272-807D-F3833661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2295-92EC-4160-91D2-B82ABA1D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EECB-AD61-487A-8257-BFD0970B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A66C3-594A-4A86-8630-14CDBF30CE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