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111054"/>
        <c:axId val="69898626"/>
      </c:barChart>
      <c:catAx>
        <c:axId val="901110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898626"/>
        <c:crosses val="autoZero"/>
        <c:auto val="1"/>
        <c:lblAlgn val="ctr"/>
        <c:lblOffset val="100"/>
        <c:noMultiLvlLbl val="0"/>
      </c:catAx>
      <c:valAx>
        <c:axId val="698986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1110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F816-C169-446E-A87A-8144B818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0BEC-1E0A-4669-9186-4F78BDE0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F536-E392-46ED-9596-863C2563E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3B0D-90A0-47E2-9A3E-42E6FC79D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8C15-31FF-4EAB-8478-50B12407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E718-905A-4A51-A862-84A09EF3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7CAA-0C6A-42E4-887F-C55E321D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EC4D-42E5-4AB0-AE60-D0459BDD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FE6D-D5A4-4DA1-96AD-7DE6E7AC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3F82-7814-4885-AF7B-DA6BA1AE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9358-21AC-48F3-A38F-34A00BF2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3735-D36F-45F3-869E-3BE2AD95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1961F-F44F-470A-A8A6-7CC2FDAA33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